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A40-F2B8-4209-80B5-C7A0E0B53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FC1-A6F3-4704-AB2E-140A41BD9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2840-43BD-4CE1-9253-9EDEAA9FA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16D5-0F8C-455F-A9F3-7EC8E3D4A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BD29-0D1F-4EBB-B1D5-EFEED8C75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08E0-A4A0-4983-91C1-04AA1AFE6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4E7F-2DEC-41CB-8392-E660AF148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1F65-1EC9-4E75-B6CA-AF8D5DC93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59D3-D504-4024-A23B-6887EC60B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E85A-5348-4943-9FC3-5CC38684F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3740-67EC-4F23-BAFC-35C7FB10B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E820-7F69-48CB-94C8-367A89979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7F3E-BA3E-40E8-A422-45ADE55BC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12AB-EFD8-46C8-AE59-3D4EB202A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D03AE87C-1583-4C60-B130-B4653BB753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 Priori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Guid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 Priority Lists (PP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ry 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Prioritization folder on ERCOT.com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Guidelin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7936400">
            <a:off x="7655040" y="2796840"/>
            <a:ext cx="1676520" cy="536400"/>
          </a:xfrm>
          <a:custGeom>
            <a:avLst/>
            <a:gdLst>
              <a:gd name="textAreaLeft" fmla="*/ 329040 w 1676520"/>
              <a:gd name="textAreaRight" fmla="*/ 1109160 w 1676520"/>
              <a:gd name="textAreaTop" fmla="*/ 71640 h 536400"/>
              <a:gd name="textAreaBottom" fmla="*/ 464760 h 5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50840"/>
            <a:ext cx="586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13716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5080" y="1981080"/>
            <a:ext cx="196380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8 – 2007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468400">
            <a:off x="3200040" y="5029200"/>
            <a:ext cx="1990800" cy="422280"/>
          </a:xfrm>
          <a:custGeom>
            <a:avLst/>
            <a:gdLst>
              <a:gd name="textAreaLeft" fmla="*/ 390600 w 1990800"/>
              <a:gd name="textAreaRight" fmla="*/ 1316880 w 1990800"/>
              <a:gd name="textAreaTop" fmla="*/ 56520 h 422280"/>
              <a:gd name="textAreaBottom" fmla="*/ 36576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7936400">
            <a:off x="6860520" y="4722120"/>
            <a:ext cx="1674720" cy="612720"/>
          </a:xfrm>
          <a:custGeom>
            <a:avLst/>
            <a:gdLst>
              <a:gd name="textAreaLeft" fmla="*/ 328680 w 1674720"/>
              <a:gd name="textAreaRight" fmla="*/ 1107720 w 167472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676520"/>
            <a:ext cx="204948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7242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351400"/>
            <a:ext cx="3547800" cy="94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5 – Post project lists and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2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4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9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1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4124160"/>
            <a:ext cx="204948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497400"/>
            <a:ext cx="2082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Initial Planning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Prioritiz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6 – Approve 2007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38280" y="43430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7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5-02T20:46:14Z</dcterms:modified>
  <cp:revision>82</cp:revision>
  <dc:subject/>
  <dc:title>Slide 1</dc:title>
</cp:coreProperties>
</file>